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73FE-0EF4-4078-ABE8-E6144EC1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sylation:  addition of a carbohydr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F20-74F7-483F-95BC-1DF36023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D54-0427-4AC9-9D94-D804483C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C9C-4F1C-44D2-B256-55EA55D3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1D3-2B37-4CBB-A537-B6FA4642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C7D-D959-4421-B20A-3659C218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0CC-98CF-4E1A-8A61-620FBC48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6FB-1FE8-4346-999A-CCA5AC73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DD8-BBAE-462D-B077-8CAC159E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18A-D004-48D5-BA21-828159E6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7F6-701D-4978-A981-9FBDB4C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CD6-6798-4329-890B-D79DD0BD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56E-7066-44A9-8F95-C0C5CAC0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BD02-C561-4C51-9B31-755B8E6E4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cs.whfreeman.com/thelifewire/content/chp12/1202003.html" TargetMode="External"/><Relationship Id="rId2" Type="http://schemas.openxmlformats.org/officeDocument/2006/relationships/hyperlink" Target="http://highered.mcgraw-hill.com/sites/0072943696/student_view0/chapter3/animation__how_translation_works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ap.wikispaces.com/Ch+17+Collaboration+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2367000"/>
            <a:ext cx="77724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carrying methionine enter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eptide)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carrying the second amino acid enter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(acceptor)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 bond forms between the methionine and the second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bosome shifts one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ionine tRNA is re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RNA moves into the P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ird tRNA enters the A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 bond is formed between the second and third 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 continues on in this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T/Transl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06800" y="1981080"/>
            <a:ext cx="292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codons: UGA, UAG and U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known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2 subunits of the ribosome to fall off of the mRNA, releasing the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33720" y="4419720"/>
            <a:ext cx="48765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translational Mod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peptides may be modified after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s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or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ed animation with qui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bcs.whfreeman.com/thelifewire/content/chp12/1202003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ed animation (McGraw-Hill) with qui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highered.mcgraw-hill.com/sites/0072943696/student_view0/chapter3/animation__how_translation_work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where the mRNA sequence is used to make a polypeptid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rib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bosom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ie.uni-hamburg.de/b-online/library/onlinebio/BioBookCELL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two subunits, 40S and 60S, composed of rRNA and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units clamp the mRNA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3016080"/>
            <a:ext cx="3809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randed nucleic acid with a cloverleaf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equence of 3 bases) on the anticodon arm, complementary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RN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iley.com/college/boyer/0470003790/structure/tRNA/trna_intr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81440" y="1981080"/>
            <a:ext cx="338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acyl-tRNA synthetase adds the correct amino acid to the adenine nucleotide at the 3’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inoacyl-t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NA with corresponding amino acid att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NAs deliver the correct amino acid to the growing polypeptide chain by complementary pairing betwee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cod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bble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can recognize more than one codon by unusual pairing between the first (5’) base of the anticodon and third (3’) base of the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consists of three main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ini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elon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bosome recognizes the 5’ cap of the mRNA and the mRNA moves through the ribosome from the 5’ to the 3’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 (methionine)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the first cod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e corr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930920" y="3362400"/>
            <a:ext cx="2689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0:14:18Z</dcterms:created>
  <dc:creator>user</dc:creator>
  <dc:description/>
  <dc:language>en-US</dc:language>
  <cp:lastModifiedBy>rubina khan</cp:lastModifiedBy>
  <dcterms:modified xsi:type="dcterms:W3CDTF">2011-11-16T11:50:11Z</dcterms:modified>
  <cp:revision>71</cp:revision>
  <dc:subject/>
  <dc:title>PowerPoint Presentation</dc:title>
</cp:coreProperties>
</file>